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2.jpeg" ContentType="image/jpeg"/>
  <Override PartName="/ppt/media/image3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wmf" ContentType="image/x-wmf"/>
  <Override PartName="/ppt/media/image12.jpeg" ContentType="image/jpeg"/>
  <Override PartName="/ppt/media/image4.gif" ContentType="image/gif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E73-153A-43D6-A25F-8EE04D000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9D7-9A2E-4133-9DFC-17E371CD1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1C0-583A-4725-9E80-16EA2789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5E9-3428-4ABE-AA30-05B20E38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A7C-F6AB-443C-9563-926E7E79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0F9-631A-4807-8785-835E04BD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403-EC9D-4664-B819-D808F85F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856-85D8-49A5-BC08-459B126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A3-5BDC-4F01-A457-54E82D42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988-CD37-40E1-987B-2AB4F86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F68-C8CB-4260-AE98-3A58BA05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BF4-26D4-4ACA-A5E7-45707E9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F97-B366-48EB-A0D6-C39D416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769-989E-44A0-8C45-7BFEA7A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821D-704F-4099-8E92-7266A5DB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249228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ХИМИЧЕСКИЕ СВОЙСТВА  И ПРИМЕНЕНИЕ КИСЛО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72360" y="4707000"/>
            <a:ext cx="2449440" cy="1836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592360" cy="1944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56360" y="692280"/>
            <a:ext cx="16574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КРУГОВОРОТ КИСЛ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551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стения, поглощая атмосферный кислород в темное время суток, в утренние часы активно выделяют его в процессе фотосинтеза органических веще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 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6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=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6 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ующиеся органические вещества разлагаютс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олжительность одного цикла в круговороте кислорода 2000 лет. За это время кислород проходит через все живое ве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 фотосинтезе образуется ежегодно 177 млрд. т органических веществ, химическая энергия которых в 100 раз больше, чем энергия, вырабатываемая всеми электростанциями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75120" cy="5041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26672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аходит широкое применение в медицине и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 высотных полётах лётчиков снабжают специальными приборами с кислор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 многих лёгочных и сердечных заболеваниях, а также при операциях дают вдыхать кислород из кислородных под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ислородом в баллонах снабжают подводные л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орение рыхлого горючего материала, пропитанного жидким кислородом, сопровождается взрывом, что даёт возможность применять кислород при взрывных раб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Жидкий кислород применяют в реактивных двигателях, в автогенной сварке и резке металлов, даже под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2A26-7932-4FE2-A618-8FBA2D10E7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H:\Черновики\tan2.JPG"/>
          <p:cNvPicPr/>
          <p:nvPr/>
        </p:nvPicPr>
        <p:blipFill>
          <a:blip r:embed="rId2"/>
          <a:stretch/>
        </p:blipFill>
        <p:spPr>
          <a:xfrm>
            <a:off x="324000" y="1557360"/>
            <a:ext cx="3752640" cy="4729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900000" y="40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ИМЕНЕНИЕ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6000" y="3502080"/>
            <a:ext cx="2228760" cy="2228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0560" y="1627560"/>
            <a:ext cx="415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 20,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. 4—1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2, 3 (с. 6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имические свойств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еществ превращаться в другие п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оздействием определенных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и изменении температуры,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и т. 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305080" cy="26352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040" y="333360"/>
            <a:ext cx="82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ХИМИЧЕСКИЕ СВОЙСТВА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0520" y="1076400"/>
            <a:ext cx="72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заимодействие веществ с кислородом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кисление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горение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581360"/>
            <a:ext cx="4319640" cy="2276640"/>
          </a:xfrm>
          <a:prstGeom prst="foldedCorner">
            <a:avLst>
              <a:gd name="adj" fmla="val 1250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648360" y="2601000"/>
            <a:ext cx="3816360" cy="2160720"/>
          </a:xfrm>
          <a:prstGeom prst="foldedCorner">
            <a:avLst>
              <a:gd name="adj" fmla="val 1250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903640" y="2671560"/>
            <a:ext cx="3816360" cy="2305080"/>
          </a:xfrm>
          <a:prstGeom prst="foldedCorner">
            <a:avLst>
              <a:gd name="adj" fmla="val 12500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880" y="19890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 неметал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3960" y="2060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 метал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835280" y="3068280"/>
            <a:ext cx="5184720" cy="158436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27"/>
                </a:lnTo>
                <a:lnTo>
                  <a:pt x="12183" y="4327"/>
                </a:lnTo>
                <a:lnTo>
                  <a:pt x="12183" y="9417"/>
                </a:lnTo>
                <a:lnTo>
                  <a:pt x="17273" y="9417"/>
                </a:lnTo>
                <a:lnTo>
                  <a:pt x="17273" y="6500"/>
                </a:lnTo>
                <a:lnTo>
                  <a:pt x="21600" y="10800"/>
                </a:lnTo>
                <a:lnTo>
                  <a:pt x="17273" y="15100"/>
                </a:lnTo>
                <a:lnTo>
                  <a:pt x="17273" y="12183"/>
                </a:lnTo>
                <a:lnTo>
                  <a:pt x="4327" y="12183"/>
                </a:lnTo>
                <a:lnTo>
                  <a:pt x="4327" y="15100"/>
                </a:lnTo>
                <a:lnTo>
                  <a:pt x="0" y="10800"/>
                </a:lnTo>
                <a:lnTo>
                  <a:pt x="4327" y="6500"/>
                </a:lnTo>
                <a:lnTo>
                  <a:pt x="4327" y="9417"/>
                </a:lnTo>
                <a:lnTo>
                  <a:pt x="9417" y="9417"/>
                </a:lnTo>
                <a:lnTo>
                  <a:pt x="9417" y="4327"/>
                </a:lnTo>
                <a:lnTo>
                  <a:pt x="6500" y="432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2482920" cy="18619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63" name="Содержимое 6"/>
          <p:cNvSpPr/>
          <p:nvPr/>
        </p:nvSpPr>
        <p:spPr>
          <a:xfrm>
            <a:off x="179280" y="2852640"/>
            <a:ext cx="22100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+ 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360" indent="-20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553080" y="1912320"/>
            <a:ext cx="259092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 + O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e+2 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6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21760" y="46530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о сложными веще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6"/>
          <p:cNvSpPr/>
          <p:nvPr/>
        </p:nvSpPr>
        <p:spPr>
          <a:xfrm>
            <a:off x="2627280" y="5084640"/>
            <a:ext cx="39607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1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+ 3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2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333360"/>
            <a:ext cx="1871640" cy="1454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611280" y="191628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ислород – сильный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кисл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 кислородом реагируют все элементы, кроме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u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t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 результате взаимодействия веществ с кислородом образуетс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ксиды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ксид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сложные вещества, которые состоят из двух элементов, одним из которых является кисл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ЗАДАНИЕ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413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341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97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авь вместо «?» необходимую формулу с коэффициен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278136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170028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77336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773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70828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2781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80536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5877000"/>
            <a:ext cx="79236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C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877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 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4869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869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P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4869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3789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860640"/>
            <a:ext cx="792000" cy="79236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06064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97360"/>
            <a:ext cx="36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920" y="40053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)                     +                   =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6093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)                     +                   =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87700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4869000"/>
            <a:ext cx="79236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555600">
            <a:off x="5867280" y="2133720"/>
            <a:ext cx="208440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ОТВЕТЫ К ЗАДАНИЮ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413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341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97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авь вместо «?» необходимую формулу с коэффициен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278136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170028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170028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773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270828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781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805360"/>
            <a:ext cx="93672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5877000"/>
            <a:ext cx="79236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877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 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797360"/>
            <a:ext cx="792360" cy="79236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869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P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486900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3789360"/>
            <a:ext cx="7920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378936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К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860640"/>
            <a:ext cx="792000" cy="79236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06064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997360"/>
            <a:ext cx="36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920" y="40053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                    +  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08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)                     +                   =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093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)                     +                   =      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877000"/>
            <a:ext cx="792000" cy="7920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Н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792000" cy="79236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876680" cy="169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ЗАДАНИЕ № </a:t>
            </a:r>
            <a:r>
              <a:rPr b="1" i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40200"/>
            <a:ext cx="94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формулы всех оксид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можно составить из записей в приведенных карточ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27664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342900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0028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80360" y="436572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35772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79736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07664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5516640"/>
            <a:ext cx="100836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49228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133720"/>
            <a:ext cx="107964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08464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587700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27664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551664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2133720"/>
            <a:ext cx="107964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50028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580536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213372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4508640"/>
            <a:ext cx="107964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653000"/>
            <a:ext cx="107964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60280"/>
            <a:ext cx="216036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кс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ОТВЕТЫ К ЗАДАНИЮ № </a:t>
            </a:r>
            <a:r>
              <a:rPr b="1" i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41300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4149720"/>
            <a:ext cx="1008000" cy="71928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3213000"/>
            <a:ext cx="86364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3213000"/>
            <a:ext cx="107928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413000"/>
            <a:ext cx="107928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3357720"/>
            <a:ext cx="1079640" cy="7189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3357720"/>
            <a:ext cx="1008000" cy="7189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149720"/>
            <a:ext cx="86364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1413000"/>
            <a:ext cx="100656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1413000"/>
            <a:ext cx="1079640" cy="79200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084640"/>
            <a:ext cx="863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5084640"/>
            <a:ext cx="107928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76640"/>
            <a:ext cx="10080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276640"/>
            <a:ext cx="100980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349360"/>
            <a:ext cx="107928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349360"/>
            <a:ext cx="1079640" cy="79236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5157720"/>
            <a:ext cx="1079640" cy="64944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9640" y="5157720"/>
            <a:ext cx="1079280" cy="64944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4292640"/>
            <a:ext cx="108108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292640"/>
            <a:ext cx="1079640" cy="720720"/>
          </a:xfrm>
          <a:prstGeom prst="flowChartProcess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2276640"/>
            <a:ext cx="1876320" cy="169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0" descr="C:\Program Files\Microsoft Office\CLIPART\PUB60COR\J0101856.BMP"/>
          <p:cNvPicPr/>
          <p:nvPr/>
        </p:nvPicPr>
        <p:blipFill>
          <a:blip r:embed="rId2"/>
          <a:stretch/>
        </p:blipFill>
        <p:spPr>
          <a:xfrm>
            <a:off x="5292720" y="4653000"/>
            <a:ext cx="3529080" cy="20098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НАХОЖДЕНИЕ КИСЛОРОДА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981000"/>
            <a:ext cx="6553080" cy="2449440"/>
          </a:xfrm>
          <a:prstGeom prst="cloudCallout">
            <a:avLst>
              <a:gd name="adj1" fmla="val 28439"/>
              <a:gd name="adj2" fmla="val 103986"/>
            </a:avLst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н всюду и вез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камне, в воздухе,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н и в утренней ро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 в небес голубиз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86064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тосфера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47%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п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в составе оксидов, со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осфера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85,8%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в основном в состав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д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п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21%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п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ения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отные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о человека -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8:13:47Z</dcterms:created>
  <dc:creator>User</dc:creator>
  <dc:description/>
  <dc:language>en-US</dc:language>
  <cp:lastModifiedBy>User</cp:lastModifiedBy>
  <dcterms:modified xsi:type="dcterms:W3CDTF">2009-08-02T12:59:05Z</dcterms:modified>
  <cp:revision>11</cp:revision>
  <dc:subject/>
  <dc:title>Слайд 1</dc:title>
</cp:coreProperties>
</file>